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EA3-21A8-4509-A549-08E6D600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E21-9435-492F-A974-2BDBE1D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0C8-617F-4F47-82F7-B3E1B65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BA8-213C-4805-B546-D5319EC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A16-D8D7-4E5D-9BA3-A539009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4F2-3879-4390-8656-BB444E5A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63D-182B-450D-B817-6872EFD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AE6-12A4-4E93-ABD4-E482BB97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B72-4AED-4A24-BBAB-25F66CC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8B6-B812-4F58-B019-891F7D7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5F5-0BA3-4FE3-A418-8DC7F14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680-E529-4062-B3F3-B236740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180-EAE0-4F02-8BCF-F299CC8A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3 Intermedi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ketball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ap Les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oose two weaknesses (one from zone and one from fast break).  This will be the element you try and improve next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wo reasons you want to improve this element.  What effect will this have on your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you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in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ies and skills needed to play each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st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ather information about your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les/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e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d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, fast, agile, good ball handling skills, accurate passing, good 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e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d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, fast, agile, good ball handling skills, accurate passing, good 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and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break = Strategy (Tac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fence = Structure (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you need to know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benefi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limitation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/when you would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ctur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group create a mind map that include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benefi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imitatio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/when you would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15mins to complete this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ther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ather information in basketball we have used Observation schedu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completed while we played a competitive game by an observer at the side.  The observer placed a tick or cross in the appropriate box when an action was completed.  The observation schedule gives us information on our strengths and weak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2692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8013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alysing information ga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at we have gathered information we can no analyse it to set training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schedules in your folder and answer the following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alysing information ga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at least one example for each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zone defence schedule describe the strength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zone defence schedule describe the Weaknesse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Fast break schedule describe the strength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Fast break schedule describe the weaknesse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47:05Z</dcterms:created>
  <dc:creator>hamiltonp</dc:creator>
  <dc:description/>
  <dc:language>en-US</dc:language>
  <cp:lastModifiedBy>hamiltonp</cp:lastModifiedBy>
  <dcterms:modified xsi:type="dcterms:W3CDTF">2010-09-14T09:02:34Z</dcterms:modified>
  <cp:revision>2</cp:revision>
  <dc:subject/>
  <dc:title> S3 Intermediate</dc:title>
</cp:coreProperties>
</file>